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D9CB-C665-498E-A450-750579B41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1B5C-53FE-4ED5-8883-A96FE017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A8B3-847E-4317-B4AE-B5EA627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0BE8-60CE-4DA1-BF6B-BC3282CD2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9DFA-0DF6-4B56-A9D7-17272C14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7C472-532F-4F76-B49B-E8573EAB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CCED-6A64-44A0-8F5C-79118F7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71D5-3E82-4BC4-9C23-BCF6E4DA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3F1A-90AB-42BA-8BA9-A9937686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10F6-850C-4476-AB4F-D169BD5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62B8-D7CB-4BD5-AF62-FC6C7A40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504D-7D78-4605-9027-3A777D36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6845B8-84A4-4961-921E-280A02EE0C6D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version - Allgeme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Rechtsfolgen bei leichter bis mittelschwerer Kriminalität (Straftaten wie Körperverletzung oder Sachbeschädigung)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Strafrechtlich (Strafanspruch des Staates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entweder gerichtliches Strafverfahren mit Urteil und Geld- oder Freiheitsstrafe, bedingt oder unbedingt („Vorstrafe“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oder außergerichtliche Bereinigung ohne Gerichtsverfahren (und ohne „Vorstrafe“)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DIVER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Zivilrechtlich (Ausgleichsanspruch des Opfers)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es besteht d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Pflicht zum Schadenersatz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MS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ei schweren Verbrechen, Tod eines Menschen oder schwerer Schuld des/der Täters/in ist keine DIVERSION möglich (Ausnahme für Jugendliche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version – Geldzahlung an Staa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organgweise: Einstellung des Strafverfahrens, wenn TäterIn einen Geldbetrag an den Staat zahl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in Gerichtsverfahren und keine „Vorstrafe“, aber behördliche Vormerku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i jugendlichen Straftätern/innen muss auf deren Leistungsfähigkeiten Rücksicht genommen wer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version – Allgemeine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ntscheidung über Diversion trifft zunächst die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taatsanwaltschaf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(auch im Gerichtsverfahren ist noch eine Diversion möglich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nterstützung durch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Verein NEUSTAR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Tatausgleich (Mediation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Vermittlung von gemeinnützigen Leistu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Bewährungshil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MS Gothic"/>
              </a:rPr>
              <a:t>Anti-Gewalt-Training, Präventionsarbeit, Opferhilfe, Integration von Tätern in die Gesellschaft, etc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version  - Möglichkei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4600" y="1066680"/>
            <a:ext cx="8613720" cy="5065920"/>
            <a:chOff x="444600" y="1066680"/>
            <a:chExt cx="8613720" cy="50659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444600" y="1066680"/>
              <a:ext cx="861372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44600" y="1066680"/>
              <a:ext cx="8613720" cy="50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version – Tatausgleich 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tausglei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Voraussetzungen: Einsicht des/der Täters/in, Bereitschaft zur Schadenswiedergutmachung und zur Auseinandersetzung mit den Ursachen der T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Überzeugung der Staatsanwaltschaft, dass ein Tatausgleich ausreicht, um Täter/in künftig von Straftaten abzuhal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Zustimmung des Opfers grundsätzlich erforderlich, nicht jedoch bei jugendlichen Straftätern (Sonderregelung des Jugendgerichtsgesetz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version – Tatausgleich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organgswe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Vermittlung zwischen TäterIn und Opfer durch Verein NEUSTART, anwaltliche Beratung mögl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Schriftlicher Ausgleich wird von NEUSTART überwacht, Bericht an Staatsanwalt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lg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Bei Einigung Einstellung des Strafverfahrens (keine „Vorstrafe“, aber justizinterne Vormerkung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Bei Scheitern Weiterführung des Strafverfahrens mit gerichtlicher Verurteilung („Vorstrafe“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version – Tatausgleich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äufige Fälle: Konflikte zwischen TäterIn und Opfer, die mit Körperverletzung oder Beschädigung von Privateigentum enden (Gewalt in Familie, Schule, Freundeskreis, Gasthaus,  Arbeitsplatz,  Nachbarschaftsstreitigkeiten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tausgleich bei Jugendlichen: Eltern haben Recht zur Stellungnahme und müssen bei Zahlungen von höheren Geldbeträgen zustimmen (+ gerichtliche Genehmigung), da Jugendliche noch nicht voll geschäftsfähig si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iversion – gemeinnützige Leistungen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oraussetzungen: TäterIn ist bereit, für die Tat einzustehen - Schadenswiedergutmachung kann von der Staatsanwaltschaft angeordnet werd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Vorgangsweise: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äterIn leistet unentgeltliche Arbeit bei einer gemeinnützigen Einrichtung (Bsp: Seniorenheim, Jugendzentrum, Verein Wams, Klamotte, Gemeindebauhof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ür jugendliche Straftäter ist die Stundenzahl der gemeinnützigen Arbeit beschränk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32840" y="900000"/>
            <a:ext cx="58716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40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iversion – gemeinnützige Leistungen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äufige Fälle: Vandalismus, Zerstörung oder Beschädigung öffentlicher Einrichtungen (keine „persönlichen“ Opf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lg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Einstellung des Strafverfahrens (keine „Vorstrafe“, aber justizinterne Vormerkung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Gothic"/>
              </a:rPr>
              <a:t>Bei Scheitern Weiterführung des Strafverfahrens mit gerichtlicher Verurteilung („Vorstrafe“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32840" y="1260360"/>
            <a:ext cx="58716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iversion – Probezeit mit Auflagen und Bewährungshilf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organgsweise: Einstellung des Strafverfahrens für eine Probezeit von ein bis zwei Jahren, wenn TäterIn sich während dieser Zeit durch Bewährungshilfe betreuen lässt und Anordnungen befolgt (Schadenswiedergutmachung, etc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ch Ablauf der Probezeit und Erfüllung aller Auflagen keine Gerichtsverfahren und keine „Vorstrafe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32840" y="360360"/>
            <a:ext cx="587160" cy="9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nelia</dc:creator>
  <dc:description/>
  <dc:language>en-US</dc:language>
  <cp:lastModifiedBy>Mama</cp:lastModifiedBy>
  <cp:revision>0</cp:revision>
  <dc:subject/>
  <dc:title>Diversion – aussergerichtlicher Tatausgleich</dc:title>
</cp:coreProperties>
</file>